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A518-4E5D-44A2-B2A1-89C592BAF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9EB2-A01E-4A9B-9190-9A525DB7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CBF9-DFA3-4840-9A0F-79B0BF0E6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3317-7F30-4FB9-933E-8F6D99FE3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16D5-72DE-4699-B9F7-B26A9DB9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68EF-7139-4468-897C-33F174F0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A924-4467-4355-9E40-A650FBBE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1315-EED9-490A-8804-BC00FCE6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FAAF-93CE-454B-868D-72763D9F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45BB-C631-43E3-8FBF-15F6024B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189A-DF1B-4055-84F2-E450E4D2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F398-ECD6-4AFC-A16E-179E2C78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2FDF-BABC-4FF4-9ABA-74C23998D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heteacher99.btinternet.co.uk/theteacher/gcse/newgcse/module8/task8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ARN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Protection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RN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has to b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ure – elabo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484360" y="2924280"/>
            <a:ext cx="42861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N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has to b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curate – elabo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87640" y="2924280"/>
            <a:ext cx="296244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has to b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vant – elabo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47624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0" lang="en-GB" sz="4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has to be sen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 out of the EEC – elabora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24000" y="2781360"/>
            <a:ext cx="460872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 at this web sit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heteacher99.btinternet.co.uk/theteacher/gcse/newgcse/module8/task8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3T10:52:36Z</dcterms:created>
  <dc:creator> </dc:creator>
  <dc:description/>
  <dc:language>en-US</dc:language>
  <cp:lastModifiedBy> </cp:lastModifiedBy>
  <dcterms:modified xsi:type="dcterms:W3CDTF">2010-02-23T10:57:53Z</dcterms:modified>
  <cp:revision>2</cp:revision>
  <dc:subject/>
  <dc:title>SARNito</dc:title>
</cp:coreProperties>
</file>